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027D-3A9B-4CBB-9F20-88FE4ECF17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F811-0E54-4BEC-8D43-5107E029E7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2434-D0F6-4E56-A8F5-5CB4704E6B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F38C-954D-4AC4-A7BF-57E62E34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34F-4DA8-45B6-82D1-FFA85F0D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75D3-2370-4FEC-8CF6-A39877FF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446B-7FC6-4CEC-B2D7-B7A4FB42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0612-F6DC-4A5F-812B-A3AB8AB1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17BB-C647-48A2-A4B2-69951198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8DB8-3B91-4D17-98C4-4688B067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50A2-008C-47DD-9B1A-7EC35CE4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5E60-80CF-4955-A676-9EE6BDB6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6572-7205-436A-8793-44E080F7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20DF-83C6-4B9A-B487-6CB11A2F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4919-038E-4E98-89A3-A7155D49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AB03-C3BF-4C96-86E1-218EC126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BD44-1CC8-4EEB-90F5-420C8658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D8D6-A2D1-4C06-8B03-12C4FD74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F5E1-FE01-4440-B07B-BB973F84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D2DD-45C4-4BD5-AA76-1F051F16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CC38-8E54-4EC2-A503-6D5A5F7B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F885-A35B-4B4C-A050-B52596CD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1653-42B6-4805-96F9-C3B98147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6005-87B4-40C1-A9BA-68B52B4C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AB34-B60E-4C6E-B29E-46470A4C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B980-000D-46B9-8A34-CAC598D2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DB1E-C68F-4BB6-9497-1B40A72B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49DD-4900-4688-9C31-3B6C3B619F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ABCD-060C-4C57-9732-B2B2049C6C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2"/>
          <p:cNvGrpSpPr/>
          <p:nvPr/>
        </p:nvGrpSpPr>
        <p:grpSpPr>
          <a:xfrm>
            <a:off x="3786120" y="214200"/>
            <a:ext cx="5079960" cy="3579840"/>
            <a:chOff x="3786120" y="214200"/>
            <a:chExt cx="5079960" cy="3579840"/>
          </a:xfrm>
        </p:grpSpPr>
        <p:pic>
          <p:nvPicPr>
            <p:cNvPr id="106" name="Picture 2" descr=""/>
            <p:cNvPicPr/>
            <p:nvPr/>
          </p:nvPicPr>
          <p:blipFill>
            <a:blip r:embed="rId1"/>
            <a:stretch/>
          </p:blipFill>
          <p:spPr>
            <a:xfrm>
              <a:off x="3786120" y="214200"/>
              <a:ext cx="5079960" cy="357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Box 5"/>
            <p:cNvSpPr/>
            <p:nvPr/>
          </p:nvSpPr>
          <p:spPr>
            <a:xfrm rot="588000">
              <a:off x="5832360" y="1104480"/>
              <a:ext cx="1285560" cy="64260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haroni"/>
                  <a:ea typeface="Aharoni"/>
                </a:rPr>
                <a:t>£6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857160" y="714240"/>
            <a:ext cx="1571760" cy="1905120"/>
          </a:xfrm>
          <a:prstGeom prst="rect">
            <a:avLst/>
          </a:prstGeom>
          <a:ln w="0">
            <a:noFill/>
          </a:ln>
        </p:spPr>
      </p:pic>
      <p:sp>
        <p:nvSpPr>
          <p:cNvPr id="109" name="Oval Callout 8"/>
          <p:cNvSpPr/>
          <p:nvPr/>
        </p:nvSpPr>
        <p:spPr>
          <a:xfrm>
            <a:off x="1428840" y="2714760"/>
            <a:ext cx="2357280" cy="1214280"/>
          </a:xfrm>
          <a:prstGeom prst="wedgeEllipseCallout">
            <a:avLst>
              <a:gd name="adj1" fmla="val -31212"/>
              <a:gd name="adj2" fmla="val -88087"/>
            </a:avLst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wi angen sofa newy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Callout 9"/>
          <p:cNvSpPr/>
          <p:nvPr/>
        </p:nvSpPr>
        <p:spPr>
          <a:xfrm>
            <a:off x="571680" y="3357720"/>
            <a:ext cx="3633480" cy="1214280"/>
          </a:xfrm>
          <a:prstGeom prst="wedgeEllipseCallout">
            <a:avLst>
              <a:gd name="adj1" fmla="val -12925"/>
              <a:gd name="adj2" fmla="val -138990"/>
            </a:avLst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d ‘does gen i ddim digon o ar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Callout 10"/>
          <p:cNvSpPr/>
          <p:nvPr/>
        </p:nvSpPr>
        <p:spPr>
          <a:xfrm>
            <a:off x="2428920" y="2500200"/>
            <a:ext cx="2357280" cy="1214640"/>
          </a:xfrm>
          <a:prstGeom prst="wedgeEllipseCallout">
            <a:avLst>
              <a:gd name="adj1" fmla="val -73824"/>
              <a:gd name="adj2" fmla="val -70060"/>
            </a:avLst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h allai i wneu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5857920" y="4572000"/>
            <a:ext cx="1609560" cy="1819440"/>
          </a:xfrm>
          <a:prstGeom prst="rect">
            <a:avLst/>
          </a:prstGeom>
          <a:ln w="0">
            <a:noFill/>
          </a:ln>
        </p:spPr>
      </p:pic>
      <p:sp>
        <p:nvSpPr>
          <p:cNvPr id="113" name="Oval Callout 13"/>
          <p:cNvSpPr/>
          <p:nvPr/>
        </p:nvSpPr>
        <p:spPr>
          <a:xfrm>
            <a:off x="2571840" y="3429000"/>
            <a:ext cx="2357280" cy="1214280"/>
          </a:xfrm>
          <a:prstGeom prst="wedgeEllipseCallout">
            <a:avLst>
              <a:gd name="adj1" fmla="val 116837"/>
              <a:gd name="adj2" fmla="val 149458"/>
            </a:avLst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h am ei phrynu gyda hurbwrpa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Oval 29"/>
          <p:cNvSpPr/>
          <p:nvPr/>
        </p:nvSpPr>
        <p:spPr>
          <a:xfrm>
            <a:off x="6072120" y="2071800"/>
            <a:ext cx="714600" cy="71424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8"/>
          <p:cNvSpPr/>
          <p:nvPr/>
        </p:nvSpPr>
        <p:spPr>
          <a:xfrm>
            <a:off x="3357720" y="2071800"/>
            <a:ext cx="714240" cy="71424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9"/>
          <p:cNvSpPr/>
          <p:nvPr/>
        </p:nvSpPr>
        <p:spPr>
          <a:xfrm>
            <a:off x="6715080" y="1785960"/>
            <a:ext cx="642960" cy="628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8"/>
          <p:cNvSpPr/>
          <p:nvPr/>
        </p:nvSpPr>
        <p:spPr>
          <a:xfrm>
            <a:off x="7143840" y="71424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6"/>
          <p:cNvSpPr/>
          <p:nvPr/>
        </p:nvSpPr>
        <p:spPr>
          <a:xfrm>
            <a:off x="7596360" y="263700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428760" y="15001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llir prynu’r car dan y dull hurbwr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e’r pris hurbwrcas yn cynnwys blaendal o 30% o’r pris arian parod ynghyd a 24 taliad misol o £1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2"/>
          <p:cNvSpPr/>
          <p:nvPr/>
        </p:nvSpPr>
        <p:spPr>
          <a:xfrm>
            <a:off x="2571840" y="28584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urbwrc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(hire purchas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1"/>
          <p:cNvSpPr/>
          <p:nvPr/>
        </p:nvSpPr>
        <p:spPr>
          <a:xfrm>
            <a:off x="402480" y="371484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aen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2"/>
          <p:cNvSpPr/>
          <p:nvPr/>
        </p:nvSpPr>
        <p:spPr>
          <a:xfrm>
            <a:off x="2436480" y="371484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30% o £5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4"/>
          <p:cNvSpPr/>
          <p:nvPr/>
        </p:nvSpPr>
        <p:spPr>
          <a:xfrm>
            <a:off x="2996640" y="492912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4 × £19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5"/>
          <p:cNvSpPr/>
          <p:nvPr/>
        </p:nvSpPr>
        <p:spPr>
          <a:xfrm>
            <a:off x="399600" y="492912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liadau mi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6"/>
          <p:cNvSpPr/>
          <p:nvPr/>
        </p:nvSpPr>
        <p:spPr>
          <a:xfrm>
            <a:off x="4563000" y="492912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= £46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428760" y="9288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e gwerthwr ceir ail-law yn gwerthu car am £54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460080" y="3001320"/>
            <a:ext cx="38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mic Sans MS"/>
              </a:rPr>
              <a:t>Beth yw’r pris hurbwrc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7" descr=""/>
          <p:cNvPicPr/>
          <p:nvPr/>
        </p:nvPicPr>
        <p:blipFill>
          <a:blip r:embed="rId1"/>
          <a:stretch/>
        </p:blipFill>
        <p:spPr>
          <a:xfrm>
            <a:off x="6429240" y="2857680"/>
            <a:ext cx="3652920" cy="26622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0"/>
          <p:cNvSpPr/>
          <p:nvPr/>
        </p:nvSpPr>
        <p:spPr>
          <a:xfrm>
            <a:off x="2305080" y="435780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0.3 × £5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4181040" y="435780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= £16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496440" y="571608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mic Sans MS"/>
              </a:rPr>
              <a:t>Pris hurbwr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3"/>
          <p:cNvSpPr/>
          <p:nvPr/>
        </p:nvSpPr>
        <p:spPr>
          <a:xfrm>
            <a:off x="3111480" y="571500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£16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4205520" y="571500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+ £46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5"/>
          <p:cNvSpPr/>
          <p:nvPr/>
        </p:nvSpPr>
        <p:spPr>
          <a:xfrm>
            <a:off x="5491440" y="571500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= £6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1:31:20Z</dcterms:created>
  <dc:creator>Carwyn</dc:creator>
  <dc:description/>
  <dc:language>en-US</dc:language>
  <cp:lastModifiedBy>Carwyn</cp:lastModifiedBy>
  <dcterms:modified xsi:type="dcterms:W3CDTF">2009-11-04T22:19:42Z</dcterms:modified>
  <cp:revision>24</cp:revision>
  <dc:subject/>
  <dc:title>Diagramau cangen</dc:title>
</cp:coreProperties>
</file>